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move the slid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wanted to make it pretty ideally, but at a minimum we wanted it to be not ugly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pecifically we’ve run into some technical problems and we’re in the process of trying to resolve those. It’s taking longer than we’d hoped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don’t have anyone on staff whose job is strictly devoted to working on or managing this project which means that development moves in fits and starts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ce we get a working instance, our next challenge will be to develop training and workflows. again for staff (and hopefully students) whose time isn’t strictly speaking allocated to this project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really like Islandora but we’re still in the testing phase and we’re trying to decide how big to dream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good news is that the user community is super helpful!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ight now, we believe that Islandora will do most of all of these things for us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are a small campus so we need the system we adopt to be THE digital asset management system for everyone on campus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like the potential for Islandora to link up with Archivematica to help us manage preservation copies of our data.</a:t>
            </a:r>
            <a:endParaRPr b="0" lang="en-US" sz="2200" spc="-1" strike="noStrike">
              <a:solidFill>
                <a:srgbClr val="000000"/>
              </a:solidFill>
              <a:latin typeface="Gill Sans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122936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4600" y="318780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4600" y="6239160"/>
            <a:ext cx="59990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1188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668440" y="318780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1188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668440" y="6239160"/>
            <a:ext cx="3958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561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2314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8240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71840" indent="-2311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6164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51080" indent="-231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635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101592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3971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77804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2498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52056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833040" indent="-2494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4552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57640" indent="-249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Islandora Implementation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Nicole Garrett Smeltekop &amp; Megan O’Neill Kudzia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lbion College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y Islandora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7720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Runs on commonly-used open-source software platform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edora Open Common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Drupa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7720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Granular security and permissioning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7720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ctive, library-heavy user community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7720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llows editing and control of the public face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ere We Ar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5320" y="2628720"/>
            <a:ext cx="122936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edora Open Commons installe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Drupal with Islandora module installe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Our Drupal permissions are goof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urrently possible to ingest objects into the Fedora repositor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Our Challeng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55320" y="271764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We’re getting a Drupal “Access Denied” error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Devoting staff time to development is difficul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Workflow and training managemen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We are still considering other option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More Challeng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55320" y="271764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We are working with: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68580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MSU Digital Curation (shout-out Aaron, Shawn, Devin, Lucas, and Eric!)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68580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Grinnel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685800" indent="-3049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e Islandora and Islandora-Dev Google Group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Where We’re Going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55320" y="2717280"/>
            <a:ext cx="12293640" cy="678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7720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We need an Institutional Repository to: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Provide access and storage for digital objects (College publications, research, etc.)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Maintain preservation copies as distinct from access copies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Be easy for staff and end users to navigate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Be not ugly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Work for all our stakeholders (faculty, staff departments, students)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 lvl="1" marL="623880" indent="-27720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ill Sans Light"/>
              </a:rPr>
              <a:t>Be migrate-able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